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4D2-D476-4CE5-9C61-170A3BF7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22B-E4A3-44EB-BB2F-74CDF09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39E-82D8-4F2D-88B5-9E210C5E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020-2F81-410D-B8C1-12F1A6F8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7813-AE0B-4144-A9D8-47CDC9C3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BDF-5E13-4673-AC54-86478F12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B8C4-1EC8-4126-B1F2-F75EAFB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5E3E-EBB2-44F4-93D1-171E49D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4E2B-D306-48D3-B438-0255C06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989A-C6DF-4EFD-A747-4308B87E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4AA-B029-440A-AA3F-09692BEE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43E-54BE-45C9-AAAF-80CE67F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0293-7054-48BF-B396-069FBB7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9FB8-F253-48E0-A981-A901C1C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AB4-2683-45D2-B0C3-D2380AE7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C583-4A3A-4E99-8B81-D102A68D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4F64-B37B-4AAF-B210-F8C9ED28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F23-38D1-40E9-909D-9E1FAEC1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360-0E55-4106-AF86-DA0AE72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DCF-4539-4FD6-83EC-56BB41E6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695-541B-49EB-ACBE-928DB33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A94-79BD-4B83-997D-BB73F16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236-3B7A-4F0F-ADC2-9142FC8C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D5B-21D2-4907-A7E1-4C7C2993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F64-B01D-4651-BCB1-3E84DE3BE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DF8-E0C5-41D1-970B-858EABDCC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sdn.microsoft.com/de-de/library/vstudio/bb399182(v=vs.100).aspx" TargetMode="External"/><Relationship Id="rId2" Type="http://schemas.openxmlformats.org/officeDocument/2006/relationships/hyperlink" Target="http://msdn.microsoft.com/de-de/library/vstudio/bb399182(v=vs.100).aspx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Kuchenbasa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chlußprojekt von Bernd Schub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fatraining Ro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dul C++ / Visual Programmierung mit Dot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ie Bestellungen sollte man nu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wählen können, die auch vorhan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nd. Bei der Umsetzung in die ComboBoxen über den Index=Key hatte ich jedoch eines nich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dacht bzw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nd dann erst durch Abstürze und Debugging herau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Tabellen können und sollen natürlich im Key Lücken sei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Auch wenn das ein Autowe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st (es können ja welche gelöscht werden)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ComboBoxen aber ni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mich bewußt für die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ariante über den ComboBox.SelectedIndex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ntschieden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eil die Fremdschlüssel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d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ben Zahlen sin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nutzt man hingege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ComboBox.SelectedIte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, läuft es auf noch eine Umsetzung und v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m einen „ungeliebten“ String-Vergleich hina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be ich das üb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ei spiegelbildliche Dictionar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löst (Index &lt;-&gt; 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fik 2" descr="Projektmappe - Microsoft Visual Studio"/>
          <p:cNvPicPr/>
          <p:nvPr/>
        </p:nvPicPr>
        <p:blipFill>
          <a:blip r:embed="rId1"/>
          <a:srcRect l="0" t="14338" r="62223" b="21169"/>
          <a:stretch/>
        </p:blipFill>
        <p:spPr>
          <a:xfrm>
            <a:off x="738360" y="3559320"/>
            <a:ext cx="3454200" cy="2884320"/>
          </a:xfrm>
          <a:prstGeom prst="rect">
            <a:avLst/>
          </a:prstGeom>
          <a:ln w="0">
            <a:noFill/>
          </a:ln>
        </p:spPr>
      </p:pic>
      <p:pic>
        <p:nvPicPr>
          <p:cNvPr id="96" name="Grafik 3" descr="Projektmappe - Microsoft Visual Studio"/>
          <p:cNvPicPr/>
          <p:nvPr/>
        </p:nvPicPr>
        <p:blipFill>
          <a:blip r:embed="rId2"/>
          <a:srcRect l="0" t="12631" r="62592" b="21483"/>
          <a:stretch/>
        </p:blipFill>
        <p:spPr>
          <a:xfrm>
            <a:off x="4673520" y="3559320"/>
            <a:ext cx="3421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426960" y="382680"/>
            <a:ext cx="824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weitere Klippe gab es bei den vorrätig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für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iel war es eigentlich nur, so viele auswählen zu lassen wie vorhanden (bei Neubestell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m Testen stellt sich jedoch schnell heraus, daß das Ganze viel komplexer ist als vermute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Bestellungsänderung eine Umbuchu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chen muß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benso bei mehrfac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peichern, beim Wechsel des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mit hatte ich eine selbst konstruierte Schwierigkeit, die mich viel Zeit beim Fehlersuch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kostet ha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es mir aber wert war, denn die </a:t>
            </a:r>
            <a:r>
              <a:rPr b="1" i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llen ja verkauft und gegess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erden und nicht durch Buchungstricks verschwi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s als durch Abstürze und Probieren merkt man sich für später auch nicht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welch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Reihenfolg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ma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den aktuell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er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des „Anzahl“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mericUpDow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ücken muß, wenn der „Vorrat“ durch Kuchenwechsel größer und vor all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kleiner wi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Preis der Bestellung ist nur vorgeschlagen und kann dem Solidaritätsprinzip folgend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oben oder unten korrigier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1"/>
          <p:cNvSpPr/>
          <p:nvPr/>
        </p:nvSpPr>
        <p:spPr>
          <a:xfrm>
            <a:off x="426960" y="382680"/>
            <a:ext cx="82422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achträglich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s hat sich nachher als sinnvoll erwiesen,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tower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ys von zumindest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Null beginnen zu 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m C++ Programm die Arrays/Listen beim 0.Element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ginnen. Somit gibt es die technischen Dummy-Sätze, was bei den ComboBoxen und z.B. beim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uerstellen viel Ärger erspart und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auch in Sprachen, die das 0.Element nicht kennen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üblich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heißen sie 999999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-Ke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der M: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habe ich gelassen, obwohl er auch bei meinem Entwur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 dataGridViewBestellungen nicht notwendi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äre.  Diese könnte trotzdem bestück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glassen erfordert einen Projekt-Umbau: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als gemeinsamen Prima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tzen 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ie es die Wissenschaft verlang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 und so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je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as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r ein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rte zulass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ich in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prüfen konnte, würde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ingend auch eine Änderung 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Programm-Logik erforder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utton müßte analog zu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extr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orm öffnen, die doppel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kennt und das Insert verweig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ie Plausibilitätsprüfung  würde reguläre Updates auch mit verhinder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Zugriff auf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üßte überall im Programm auf 2 Keys,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ändert 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auptsächlich aufgrund meiner Entscheidung, die Bestellungen komplett in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u verwalten ohne zweites Fenster, habe ich das aber nicht realisi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feld 1"/>
          <p:cNvSpPr/>
          <p:nvPr/>
        </p:nvSpPr>
        <p:spPr>
          <a:xfrm>
            <a:off x="426960" y="382680"/>
            <a:ext cx="824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i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ser Punkt hat mir am meisten Spaß gemach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ellungen 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ein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Tabl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ringen und eine ansonsten leere Form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GridView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liefern. Ich wollte eigentlich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ist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hmen, ging aber nich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rtieren nach den Spalten ist gleich inclus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habe ich kein Beispiel zu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richtigen“ Data Mapp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fu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es soll da was geben, daß man die SQL Tabellen direkt als DataSource angeben kann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feld 1"/>
          <p:cNvSpPr/>
          <p:nvPr/>
        </p:nvSpPr>
        <p:spPr>
          <a:xfrm>
            <a:off x="426960" y="382680"/>
            <a:ext cx="8296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r für den Test genügend Zeit eingeplant, teilweise war das auch schon währe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 „agilen“ Entwicklung der Menge/Preis Problematik bei Kuchenwechsel gescheh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die Access-Datenbank nicht wie CSV-Dateien immer verworfen und bei Bedarf neu gele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, habe ich mir als Sicherungspunkt immer eine Kopie der kompletten MDB erstell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mich einigermaßen zufriedenstellende Version mit den geplanten Funktionen 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is mir folgendes auffiel: Die K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FormMain)                 (dbAssistent)              (KuchenDB)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i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</a:t>
            </a:r>
            <a:r>
              <a:rPr b="1" lang="de-DE" sz="2000" spc="-1" strike="noStrike">
                <a:solidFill>
                  <a:srgbClr val="843c0c"/>
                </a:solidFill>
                <a:latin typeface="Calibri"/>
              </a:rPr>
              <a:t>num</a:t>
            </a:r>
            <a:r>
              <a:rPr b="1" lang="de-DE" sz="2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int 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-&gt;  </a:t>
            </a:r>
            <a:r>
              <a:rPr b="0" lang="de-DE" sz="1600" spc="-1" strike="noStrike">
                <a:solidFill>
                  <a:srgbClr val="00b050"/>
                </a:solidFill>
                <a:latin typeface="Calibri"/>
              </a:rPr>
              <a:t>dict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[n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ah irgendwie komisch aus.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ie funktioniert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Frag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ch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r bei den Benennungen verta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mal oder mehrm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nun tun? Umbenennen? Und riskieren, daß alles kaputt geht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lles waren Funktionen/Dictionary der Form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unktion(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;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s gab schätzungweise 16 Möglichkeiten, von denen nur 2 richtig wär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ich gut im Zeitplan lag, sagte mir eine Stimme aus dem Dunke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ächle und sei froh, es könnte schlimmer kommen…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nd ich lächelte und war froh. Und siehe: es kam schlimmer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Umbenennung stürzten die ComboBoxen und die Updates gnadenlos ab und al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paraturversuche scheiterten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, ich wußte nicht mehr, wie rum es nun richtig w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so habe ich mich kurzerhand für Neuprogrammierung entschie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konsequenterweise alles, beginnend von den Dictionary bis zum endgültigen Aufruf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m Namensschema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Fro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id) entschieden, denn das „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“ hatte irgendwann einm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zum Verwechseln verleit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Programm lief wieder auf Anhieb und zu meiner Zufriedenheit stab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fern ein Programmierer sein eigenes Programm komplex „endtesten“ darf, was eigentlich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jemand anderes tun soll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Das Rel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forderlich ist die im gleichen Ordner befindlich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.m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m vorherigen Alfatraining-Lehrgang wußte ich, daß die Computer hier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erver 201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stallation haben. Damals haben wir dort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odelliert und a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fache „Programmoberfläche“ Access-Formular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nutz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keine Access-Tabellen sondern die originalen im SQL-Server per ODB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ch auf die Idee brachte, das nun auch mit C++/WindowsForms zu vers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keine Möglichkeit fand, die Access-Tabellen zu exportieren, habe ich zumindest di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abelle(n)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öglichst exakt nachmodellier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Datentyp heißt hi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i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(automatisch erzeugte und von mir editierte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kript, um die Datenbank zu erzeu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Test-HRO23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ch leider an diesen Rechner gebunden b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Verbindungsstring im dbAssistenten müßte hier angepaßt werden, wenn das auf ein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n Computer ausgeführt werden soll (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feld 1"/>
          <p:cNvSpPr/>
          <p:nvPr/>
        </p:nvSpPr>
        <p:spPr>
          <a:xfrm>
            <a:off x="426960" y="382680"/>
            <a:ext cx="8242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Programmanpassungen waren erstaunlich einfach, dank der Programmstruktur in Modu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bindungsstri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uß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leDb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ommands, Reader, Connectio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ur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setz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mal hieß ein Typ „Int“ oder „BigInt“ statt „Integer“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müssen die Strings für die SQL-Kommandos beim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DateTim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geringfügi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gepaßt werden (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AS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vda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it Hochkomma statt ohn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nach konnte das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gramm die Verbindung herstellen und ein Update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unktionierte tadellos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Grafik 3" descr=""/>
          <p:cNvPicPr/>
          <p:nvPr/>
        </p:nvPicPr>
        <p:blipFill>
          <a:blip r:embed="rId1"/>
          <a:srcRect l="5278" t="42429" r="56945" b="36833"/>
          <a:stretch/>
        </p:blipFill>
        <p:spPr>
          <a:xfrm>
            <a:off x="4741920" y="3632040"/>
            <a:ext cx="3927240" cy="220212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5" descr=""/>
          <p:cNvPicPr/>
          <p:nvPr/>
        </p:nvPicPr>
        <p:blipFill>
          <a:blip r:embed="rId2"/>
          <a:srcRect l="6112" t="43087" r="58425" b="33869"/>
          <a:stretch/>
        </p:blipFill>
        <p:spPr>
          <a:xfrm>
            <a:off x="541440" y="3632040"/>
            <a:ext cx="3929040" cy="252252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159552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lipse 9"/>
          <p:cNvSpPr/>
          <p:nvPr/>
        </p:nvSpPr>
        <p:spPr>
          <a:xfrm>
            <a:off x="7662960" y="4813200"/>
            <a:ext cx="473040" cy="309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lipse 10"/>
          <p:cNvSpPr/>
          <p:nvPr/>
        </p:nvSpPr>
        <p:spPr>
          <a:xfrm>
            <a:off x="5875200" y="4770360"/>
            <a:ext cx="652680" cy="393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739296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lipse 12"/>
          <p:cNvSpPr/>
          <p:nvPr/>
        </p:nvSpPr>
        <p:spPr>
          <a:xfrm>
            <a:off x="5697360" y="4343400"/>
            <a:ext cx="71136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13"/>
          <p:cNvSpPr/>
          <p:nvPr/>
        </p:nvSpPr>
        <p:spPr>
          <a:xfrm>
            <a:off x="4741920" y="302580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14"/>
          <p:cNvSpPr/>
          <p:nvPr/>
        </p:nvSpPr>
        <p:spPr>
          <a:xfrm>
            <a:off x="558720" y="302580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1"/>
          <p:cNvSpPr/>
          <p:nvPr/>
        </p:nvSpPr>
        <p:spPr>
          <a:xfrm>
            <a:off x="426960" y="382680"/>
            <a:ext cx="8506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waltung eines Kuchenbasa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C++ / Visual Studio / Windows Forms Template und Access Datenban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fang des relationalen Modells ist nicht so wichti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chtiger war das Kennenlernen visueller Komponen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ufteilung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3 Datenbanken in einer Form sind schon eine Herausforderung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man nur mit sauberem Design beherrsc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Verbindung zur Datenbank mit den gelernten Methoden und Mittel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(3 Schichtenmodell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-Assistent, der später den Übergang von Access zu SQL-Server gestatten so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robe Zeitplanung (10 Tage zur Verfüg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nnenlernen der Oberfläche und Design mit übersichtlicher Aufteil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uerung der Eingaben, Buttons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peichern, Neu und Lös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als besonderen Wunsch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rstellung , Speicherung verschiedener Datentypen: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tellen von Dateien auf SQL (Access)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bauen der M:N Logik für die Bestellunge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e Plausibilitäten und Berechn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 und Fehlersuche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okumentatio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alls zeitlich möglich, zweite Variante über SQL-Server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lls zeitlich möglich, andere Designs von Microsoft anschauen per MSDN Beispi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feld 1"/>
          <p:cNvSpPr/>
          <p:nvPr/>
        </p:nvSpPr>
        <p:spPr>
          <a:xfrm>
            <a:off x="426960" y="382680"/>
            <a:ext cx="8124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azi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bei dem Projekt was gelern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war mir wichtiger als ein super schickes Design oder Performan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öhepunkte für mich wa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weils der Übergang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CSV auf SQL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zw.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Access auf SQL-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war aufgrund der modularen Struktur relativ problemlo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Sache mit d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ictionar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lltext-Filter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wie das Übergeben der Datenverwaltung von Form zu Form (gewußt wie </a:t>
            </a:r>
            <a:r>
              <a:rPr b="1" lang="de-DE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ter Stichwort des Microsoft Ent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msdn.microsoft.com/de-de/library/vstudio/bb399182(v=vs.100)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ht angeblich ein Beispiel, das wenn man alle Schritte nachvollzieh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 C# Programm mit SQL Tabellen erstellt (habe ich im Rahmen des Projektes nicht geschaff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3 (nachträglic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 d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zu haben (da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ava-Programm aus dem späteren Ku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elch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näch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f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i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lief und dann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My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geklont wurde und letztlich auch je eine Variante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erver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beka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, habe ich auch die komplette Datenbank für dies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++ Program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m SQL Server nachmodellier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Leider habe ich außer CSV keinerlei Austauschformate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möglichkeiten gefund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 Das Sqript für die Datenbank 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VC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das lauffähige Programm ist d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meiner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 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ll das Program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einen anderen SQL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aufen, müßte noch der Verbindungsstring im DB-Assistenten angepaßt wer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n bereits beschriebenen Programmänderungen mußte auch no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ährungs-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el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oub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ecima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wende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werden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r neben ein paar Abstürz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reichlich graue Haare bescher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Access - Kuchenbasar : Datenbank- D:\alfatraining\c-projekte\Beschreibung\Kuchenbasar.mdb (Access 2002 - 2003-Dateiformat)"/>
          <p:cNvPicPr/>
          <p:nvPr/>
        </p:nvPicPr>
        <p:blipFill>
          <a:blip r:embed="rId1"/>
          <a:srcRect l="972" t="9693" r="24166" b="43240"/>
          <a:stretch/>
        </p:blipFill>
        <p:spPr>
          <a:xfrm>
            <a:off x="939960" y="507960"/>
            <a:ext cx="6845040" cy="1892520"/>
          </a:xfrm>
          <a:prstGeom prst="rect">
            <a:avLst/>
          </a:prstGeom>
          <a:ln w="0">
            <a:noFill/>
          </a:ln>
        </p:spPr>
      </p:pic>
      <p:pic>
        <p:nvPicPr>
          <p:cNvPr id="86" name="Grafik 3" descr="Access - Kuchenbasar : Datenbank- D:\alfatraining\c-projekte\Beschreibung\Kuchenbasar.mdb (Access 2002 - 2003-Dateiformat)"/>
          <p:cNvPicPr/>
          <p:nvPr/>
        </p:nvPicPr>
        <p:blipFill>
          <a:blip r:embed="rId2"/>
          <a:srcRect l="15186" t="16977" r="20927" b="48182"/>
          <a:stretch/>
        </p:blipFill>
        <p:spPr>
          <a:xfrm>
            <a:off x="1441440" y="2700360"/>
            <a:ext cx="5842080" cy="17017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4" descr="Access - Kuchenbasar : Datenbank- D:\alfatraining\c-projekte\Beschreibung\Kuchenbasar.mdb (Access 2002 - 2003-Dateiformat)"/>
          <p:cNvPicPr/>
          <p:nvPr/>
        </p:nvPicPr>
        <p:blipFill>
          <a:blip r:embed="rId3"/>
          <a:srcRect l="2409" t="14634" r="0" b="44629"/>
          <a:stretch/>
        </p:blipFill>
        <p:spPr>
          <a:xfrm>
            <a:off x="152280" y="4452840"/>
            <a:ext cx="8923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ig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rei Reiter, für jede Datenbank ei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sollen in der FormMain selbst verwalte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kommen je eine eigene Update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och eine Listen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direkt wirkend auf die Bestückung der dataGridVie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öglichst alle der Datentypen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ch verwe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ccess soll referentielle Integrität (auch beim Löschen!) überneh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Einfügen/Verändern soll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ComboBoxen / Zahleneingaben nur das zulass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was auch tatsächlich aktuell vorhanden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z.B. welch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/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ieviel davon usw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es eine Soli-Veranstaltung sein soll, kann man den Preis, der aufgrund Anzahl*Grundpreis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vorgeschlagen wird, trotzdem nach oben/unten korrigi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jede Tabell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igene Klassen und Forms (2-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zu FormMain, Liste, Interface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he Übersi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er Verwaltung  einer „Tabelle“ (am Anfang noch eine CSV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bspeichern, Lesen, auf dem Bildschirm darstellen, Verändern, Löschen, N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llen 3 werd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war das doch aufwendiger als vermutet, das Programm wächst schnell an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an droht den Überblick zu verlieren. Namenssystematik und modulare Zerlegung si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nöte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habe ich keinen Weg gefunden, die ganzen visuellen Elemente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rgendwie zu verstecken, die nerven/stö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Zudem ist es gar nicht mal so ganz ungefährlich, sich beim Umbenennen und Vervielfältigen au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tellisense zu ver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enn es gibt viel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falsche Freunde“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ie Groß/Kleinschreibu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Klassen/Variablen usw. teils gleichen Namensstamms erfordert viel Konzent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feld 1"/>
          <p:cNvSpPr/>
          <p:nvPr/>
        </p:nvSpPr>
        <p:spPr>
          <a:xfrm>
            <a:off x="426960" y="382680"/>
            <a:ext cx="8242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bin den Weg gegangen, erst 3 „Tabellen“ vollständig zu integrieren und den Ablauf z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en, und habe dann nach SQL/Access umgestell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Hätte man es anders herum gema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erst eine Tabelle vollständig, dann 3x und den Ablauf baue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ürde  es m.E. noch meh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robleme g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as Ganze hat mich leider viel mehr Zeit gekostet als geplant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ber ein Ziel des Projek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ar ja auch, das Verfahren auszuprobieren und dabei zu lern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rseits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konnte es auch genießen, mal die Zeit zu haben, z.B.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eine Stunde lang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dem Debugger darüber zu streiten, an welcher Zeile der Cursor nach dem letzten Update, Inse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oder Delete stehen muß.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warum dies bei verändertem Filter und sich daraus ergeben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längerung oder Verkleinerung der Anzeige auch noch gelten so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man jetzt 4 oder noch mehr Tabellen integrieren soll, ist mir schwer vorstellbar – ich denk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muß es noch ganz andere Programm-Designs und funktionale Entwürfe ge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 funktionierendes Testprogram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ieser Projektphase wär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test4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(mit 3 CSV-Dateien, die auch gelesen/gespeichert werden = sehr nützlich zum Ausprobieren, wenn man auch schon mal alle Sätze löschen will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das schrittweise erst für eine Tabelle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macht, und auch in einem eigen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programm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, mir war schon klar, daß hier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iele Umbaut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f mich zu kamen und i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ganze Weil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kompilierfähiges Programm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kommen muß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chwierigkeiten gab es mit der AddWithValue-Variante des OleDbCommand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Ich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rklich sehr lange gesucht und debuggt, es gab auch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cheinbar keine Syntaxfehler in de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erzeugten SQL-Anweisung, nur wurden eben nie Zeilen upgedatet.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Leider konnte man d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Anweisung auch nie komplett sehen und es gab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ine qualifizierte Fehlermeld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ie ich z.B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STATE vom DB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r kenne). Somit blieb das Zusammenbauen der Anweis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 String, was sich dann als enorm nützlich beim Debuggen und später beim Versuch 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Server erw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 weiteres Problem waren die DateTime-Wer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Access mit der cvdate Funk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caste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 müssen, wie mir nach mühseligem Probieren ein Tip aus dem Internet verr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ressant fand ich in dieser Projektphase, dann Programme mit gemischt SQL-Tabelle erst nu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noch auf CSV-Datei zu haben. Das schrittweis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setzen ging dann doch relativ unproblematis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iel Spaß gemacht hat mir hier, daß mein Volltextsuchen-Filter immer noch funktionier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er Umgang mit den visuellen Kontrollelementen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eger, Double, Boolean,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wie die Unterscheidung in nur Anzeige über Textbox bzw. Änderung über eben jene 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der Struktur her bemerkenswert fand ich ebenso, daß man die gesamte Verwalt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Liste bei CSV, dbAssistent bei DB2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 Form zu For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geben konnte (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muß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50:27Z</dcterms:created>
  <dc:creator>Alfa</dc:creator>
  <dc:description/>
  <dc:language>en-US</dc:language>
  <cp:lastModifiedBy>alfware Bernd Schubert</cp:lastModifiedBy>
  <dcterms:modified xsi:type="dcterms:W3CDTF">2015-04-21T21:59:15Z</dcterms:modified>
  <cp:revision>151</cp:revision>
  <dc:subject/>
  <dc:title>Festival</dc:title>
</cp:coreProperties>
</file>